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6C8-AFB8-49C7-AE35-B42E8D3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F57-2172-40A2-A988-A70A5897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CD7-3069-486B-8F4B-8364D74B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193-878C-4FF1-B8E9-33584716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74A1-3AEC-44E4-BB45-E4003945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A06-8268-4CCB-9636-F2CEEA5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C64-1AE9-494D-A0E2-4025F84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E1F-8B08-4257-99E4-3A4F3CF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EFF-7D4D-43C0-8A19-3CA1D73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F5CF-D728-460A-B2CA-B621114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0BCE-E3A7-4AA7-BD10-A8BA9F7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DB7-D771-499E-A523-74157B41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AF5C-56E5-44CD-822F-02A8BCFF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046-80A1-4897-AF4B-3D3E3B7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BDC-8053-41B4-91E5-22E1832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F73-2A01-4609-B073-D4A86915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DE5-E85C-4F65-8E21-1F305C4F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1EE-3498-420E-A5F3-0495CD0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405-C40A-4F34-8689-E0A0324F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F2F-07FD-46B8-9845-AABB063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2F3-028F-4217-B3E0-6B1C1C7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90B-290E-4B50-B854-5243101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160-900D-417F-8241-8D0D39C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642-9D53-48E7-96D3-275EA536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F26-8B78-45B6-A3F4-FA92349211B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6474-C3C0-477F-8886-0AAF98ADC54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功能指令及其通用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程序流程类指令的基本编程方法及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功能指令在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213300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警戒时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2708280"/>
          <a:ext cx="5905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5905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55628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彩灯的两种闪烁模式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211640" cy="40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30080" y="22766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78626" t="0" r="0" b="0"/>
          <a:stretch/>
        </p:blipFill>
        <p:spPr>
          <a:xfrm>
            <a:off x="7926480" y="2276640"/>
            <a:ext cx="121752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9658" b="0"/>
          <a:stretch/>
        </p:blipFill>
        <p:spPr>
          <a:xfrm>
            <a:off x="3892680" y="2349360"/>
            <a:ext cx="39020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87200" y="17002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多工作方式的小车行程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359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程序调用指令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各种用途开关类电器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控制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3440" cy="169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456000" cy="210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59160" y="1557360"/>
            <a:ext cx="4884840" cy="5300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3960" y="3788640"/>
            <a:ext cx="26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车行程控制系统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16600" y="63586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面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原理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42467" r="0" b="2745"/>
          <a:stretch/>
        </p:blipFill>
        <p:spPr>
          <a:xfrm>
            <a:off x="4656240" y="2205000"/>
            <a:ext cx="448776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程序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0" r="0" b="57677"/>
          <a:stretch/>
        </p:blipFill>
        <p:spPr>
          <a:xfrm>
            <a:off x="0" y="2965320"/>
            <a:ext cx="4861080" cy="389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57360" y="2276640"/>
            <a:ext cx="17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8605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思考下列问题，将正确的答案填入空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条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将不执行该指令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位元件，即由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设计一个报警电路。输入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报警输入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亮，闪烁频率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报警蜂鸣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音响输出，报警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由闪烁变为常亮且停止音响；按下报警解除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报警灯熄灭。为测试报警灯和报警蜂鸣器的好坏，可用测试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时测试。试画出控制程序梯形图、写出语句表，并加注释。（提示：可分别将报警和报警响应两种状态用两段子程序编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4160" y="162864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2480" y="2275920"/>
            <a:ext cx="225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功能指令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5530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87040" y="30679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格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92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达形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17880" y="4941720"/>
            <a:ext cx="694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7920" y="1988640"/>
            <a:ext cx="1337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1160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3755880" cy="71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7594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01720" y="24210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3360" y="33577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040" y="429264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（慎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4176720" cy="76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4941000"/>
            <a:ext cx="275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脉冲执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240" y="83628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0920" y="1912320"/>
            <a:ext cx="36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元件及字元件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5498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64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9960" y="1988280"/>
            <a:ext cx="325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48160" y="2452680"/>
            <a:ext cx="4356000" cy="41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9440" y="3714480"/>
            <a:ext cx="32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50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+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0160" y="31978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第三行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6880" y="220428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条件跳转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16480" y="2232000"/>
          <a:ext cx="54720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232000"/>
                    <a:ext cx="5472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3644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3328920"/>
            <a:ext cx="312732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30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2781360"/>
            <a:ext cx="2089080" cy="360360"/>
          </a:xfrm>
          <a:prstGeom prst="wedgeRoundRectCallout">
            <a:avLst>
              <a:gd name="adj1" fmla="val -23935"/>
              <a:gd name="adj2" fmla="val 10991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149720"/>
            <a:ext cx="576360" cy="1943280"/>
          </a:xfrm>
          <a:prstGeom prst="wedgeRoundRectCallout">
            <a:avLst>
              <a:gd name="adj1" fmla="val 103166"/>
              <a:gd name="adj2" fmla="val 678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重跳转指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640" y="69192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62800"/>
            <a:ext cx="187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子程序调用及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628640"/>
          <a:ext cx="558000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5800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1788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2349360"/>
            <a:ext cx="3102120" cy="410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877000"/>
            <a:ext cx="1800360" cy="753840"/>
          </a:xfrm>
          <a:prstGeom prst="wedgeRoundRectCallout">
            <a:avLst>
              <a:gd name="adj1" fmla="val 53615"/>
              <a:gd name="adj2" fmla="val -16852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的应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700280"/>
            <a:ext cx="2448000" cy="433440"/>
          </a:xfrm>
          <a:prstGeom prst="wedgeRoundRectCallout">
            <a:avLst>
              <a:gd name="adj1" fmla="val -15888"/>
              <a:gd name="adj2" fmla="val 12985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的嵌套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48200" y="1889280"/>
            <a:ext cx="4195800" cy="496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628280"/>
            <a:ext cx="37911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03560" y="278064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中断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47512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89360"/>
                    <a:ext cx="475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4280"/>
            <a:ext cx="305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主程序结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781360"/>
          <a:ext cx="525600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5256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014840" y="393300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6440" y="4581360"/>
            <a:ext cx="5400720" cy="16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492360" cy="277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 rot="10800000">
            <a:off x="5651280" y="587592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程序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05:52:25Z</dcterms:modified>
  <cp:revision>113</cp:revision>
  <dc:subject/>
  <dc:title>模块二  S7-200系列PLC的基本结构 </dc:title>
</cp:coreProperties>
</file>